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089-F19B-4CBA-A460-06A1C315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5A7-7484-41B6-8251-2CBEC532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12E-C3E2-40FB-8EE6-F5E998BF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A37-54E2-4837-8C66-4597F8C8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C80-8B7A-4449-ACF2-7893FD07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FC3-88DD-4829-B621-0FA563C5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BA1-439F-46E3-AEA9-AE697CC0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797-6DDB-4AF9-86A4-BC4265B4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030-C649-4D87-97F5-145E9C16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F33-46F8-47E1-8FCD-B8D12D74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1C0-B5E0-4AD6-BF00-9EF1A0F5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EBA-86E0-424D-A2FC-B3FDA98F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C8BF-92B1-46CF-874B-6D2EFB326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de 3 Fluency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heck my fluency with addition &amp; sub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view strategies for ad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view strategies for sub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2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3 co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nterpret and apply comparison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comparison word problems with misleading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word problems with unknown partners and express relationships as equations and inequaliti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word problems with unknown star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comparison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comparison problems with misleading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3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and solve a variety of multi-digit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, and represen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- Unit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raw lines of symmet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congruent halves of figures and congruent figu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4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label and name figures using let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the relationship between the diagonals of quadrilaterals and the triangles they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what an angle is and name angles by siz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and name polyg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the relationship between quadrilaterals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4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angle measures by comparing them to angles with known meas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iscover that the sum of the measures of the angles in any triangle is 180 degre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he measures of two angles in a triangle, I can find the measure of the third ang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- Unit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numbers to the nearest hund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to estimate sums and differences and check calcul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e 3- Unit 5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numbers to the nearest hund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to estimate sums and differences and check calculations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numbers to the nearest 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rounding to estimate sums and differ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quant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and order whol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the values of expre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view the values of a penny, nickel, dime, and quar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termine and compare the values of collections of coins and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represent amounts of  money in various w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counting out the exact amount of money to make a purcha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Counting 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trategy to make change from purcha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ound money amounts to the nearest dime or doll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estimates in real-world situations involving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nterpret information in tab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write and solve problems based on tables with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information in tables to create and solve word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mplete tab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reate a simple t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practice completing tables in which there is a mathematical relationship between the colum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word problems with extra or hidden inform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dentify word problems with not enough information to solve and identify the information need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write word problems with not enough inform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word problems requiring two ste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multi-step word problems requiring two or more ste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write and answer questions using horizontal and vertical bar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bar graphs to represent data from t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the mode and range of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analyze data in horizontal and vertical bar graph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information in a table to create horizontal and vertical bar graph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nstruct and analyze frequency tables and line plo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match a set of data with a graph and describe the important featur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 and represent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-Uni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and interpret place value draw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that 1000 is 10 hundr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the value of a dig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drawings to represent money am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roup and ungroup multi-digit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word problems that require an understanding of pl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- Unit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and describe slides, flips and tu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slides, flips, and turns in geometric patterns and can create patte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repeating number patter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repeating geometric patter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number pattern that grows or shrin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geometric pattern that grows or shrin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- Unit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5s count-bys and multiplic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learn important multiplication vocabul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multiplication to represent repeated groups situ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drawings to help solve word problems involving repeated group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multiplication to represent array situ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drawings to help solve word problems involving array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nderstand that multiplication is communicativ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7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late division to multiplic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division word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2’s count-bys and multiplic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nterpret a pictograp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10s count-bys, multiplication and divis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9s multiplications and divis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a strategy for multiplying and dividing with 9s quickl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240" y="151920"/>
            <a:ext cx="8534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actice 2s, 5s, 9s, and 10s multiplications and divi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explore patterns in 3s count-bys, multiplications and divi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strategy for finding count-bys and products for multipliers greater than 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nderstand the area model for multi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shortcut for solving a multiplication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and identify multiplication and division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write and solve multiplication and division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patterns in 4s multiplication and count-b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a strategy for finding 4s count-bys and solving problems involving 4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understand the relationships in the fast arr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velop multiplication and division strateg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7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look for patterns in 1s multiplication, count-by, and div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multiplications and divisions with zero and learn that divisions by zero are not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nvestigate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Properties of Addition and Multiplic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with 2s, 3s, 4s, 5s, 9s, and 10s multiplication and div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multiplication and division for 0s, 1s, 2s, 3s, 4s, 5s, 9s, and 10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multiplication and division word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7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Unit 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numbers from scrambled place value na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place value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and apply multi-digit addition metho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proof drawings to show that addition methods are corre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pply and discuss multi-digit addition metho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why it is necessary to align places before ad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dd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cide when and how to group in multi-digit addi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adding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adding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explain errors in addition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methods  of subtracting multi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a common subtraction err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5228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with zeros in the top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subtraction problems involving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using two different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explain when and how to ungroup when subtracting multi-digit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late grouping in addition and ungrouping in subtr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actice and discuss subtraction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actice and discuss addition and subtraction meth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,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- 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lengths to the nearest centime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line segments of given leng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perimeters of triangles and quadrilater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and find examples to illustrate the terms,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line, line segment, parallel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erpendi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opposite and adjacent sides of quadrilater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2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develop definitions for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parallelogram,  rectangle, square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homb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the relationships among parallelograms,  rectangles, squares, and rhombus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the perimeters of rectangles and  squares without measuring all four sid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draw parallelograms and rectang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observe the relationship between the dimensions of a rectangle and its perimet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view the features of quadrilaterals, parallelograms, rectangles and squar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describe the relationships among various types of quadrilater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92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Grade 3- Unit 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a variety of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view the relationships between addition and subtrac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a variety of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view the relationships between addition and subtrac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word problems with unknown star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convert situation equations to solution equ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interpret and use comparison language such as the word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fewe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solve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comparison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6:57:22Z</dcterms:created>
  <dc:creator>MCPS</dc:creator>
  <dc:description/>
  <dc:language>en-US</dc:language>
  <cp:lastModifiedBy>an MCPS user</cp:lastModifiedBy>
  <dcterms:modified xsi:type="dcterms:W3CDTF">2010-11-18T13:36:16Z</dcterms:modified>
  <cp:revision>136</cp:revision>
  <dc:subject/>
  <dc:title>Slide 1</dc:title>
</cp:coreProperties>
</file>